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301135-AC6A-4624-9561-060F5E5A88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41426-2641-4158-BD92-0AB13D7C3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C13E1D-CF03-4DE7-90F9-4205CFA9D6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4D6B27-F006-432D-B2E2-BD34D44CFA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DE871-EDFA-4C94-87F6-D61A87B4A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D46F4-B71E-439F-88DF-AF09C1674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3ADA0-6A1A-423F-9FAA-F0F618C8E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F28A9-1745-49CA-A730-DBC57E503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9AB05-BC73-49BE-B66A-D1AE38241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C38EC-A3C6-4231-AB68-7F69A575D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CBCB8-26AB-4709-867A-02670D846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591DB-FB14-45F0-BA76-2028646187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76239-7E59-4668-B810-94A3855C6F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Hole in The Poo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647960" y="990360"/>
            <a:ext cx="38098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8" name="" descr=""/>
          <p:cNvPicPr/>
          <p:nvPr/>
        </p:nvPicPr>
        <p:blipFill>
          <a:blip r:embed="rId1"/>
          <a:stretch/>
        </p:blipFill>
        <p:spPr>
          <a:xfrm>
            <a:off x="685440" y="990360"/>
            <a:ext cx="3809880" cy="5105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647960" y="990360"/>
            <a:ext cx="3809880" cy="51051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na takes out all the one and five dollar bills because she doesn’t like them.She puts the money in the house and then Selena goes back outside and does a 2000 and 360 in the air. She feels  a slight breeze when she did the flip.</a:t>
            </a:r>
            <a:endParaRPr b="0" lang="en-US" sz="2800" spc="-1" strike="noStrike">
              <a:solidFill>
                <a:srgbClr val="000000"/>
              </a:solidFill>
              <a:latin typeface="Arial"/>
            </a:endParaRPr>
          </a:p>
        </p:txBody>
      </p:sp>
      <p:pic>
        <p:nvPicPr>
          <p:cNvPr id="44" name="" descr=""/>
          <p:cNvPicPr/>
          <p:nvPr/>
        </p:nvPicPr>
        <p:blipFill>
          <a:blip r:embed="rId1"/>
          <a:stretch/>
        </p:blipFill>
        <p:spPr>
          <a:xfrm>
            <a:off x="685440" y="990360"/>
            <a:ext cx="3809880" cy="5105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647960" y="990360"/>
            <a:ext cx="3809880" cy="5105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na feels nice and secure while she’s in the pool. She was so eager to be in pool for the first time.Suddenly she feels a big tug harder and harder.She was getting sad thoughts in her head. She was crying and crying because her leg was cut off.           </a:t>
            </a:r>
            <a:endParaRPr b="0" lang="en-US" sz="2400" spc="-1" strike="noStrike">
              <a:solidFill>
                <a:srgbClr val="000000"/>
              </a:solidFill>
              <a:latin typeface="Arial"/>
            </a:endParaRPr>
          </a:p>
        </p:txBody>
      </p:sp>
      <p:pic>
        <p:nvPicPr>
          <p:cNvPr id="46" name="" descr=""/>
          <p:cNvPicPr/>
          <p:nvPr/>
        </p:nvPicPr>
        <p:blipFill>
          <a:blip r:embed="rId1"/>
          <a:stretch/>
        </p:blipFill>
        <p:spPr>
          <a:xfrm>
            <a:off x="685440" y="990360"/>
            <a:ext cx="3809880" cy="5105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647960" y="990360"/>
            <a:ext cx="3809880" cy="5105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na screams and screams as loud as she could.She screamed until her throat hurt.She yelled “HELP”. She saw some one coming on a cool motorcycle.She yelled, “OVER HERE”. Her brother saw her and yelled “ IM COMING!”and went to save h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 name="" descr=""/>
          <p:cNvPicPr/>
          <p:nvPr/>
        </p:nvPicPr>
        <p:blipFill>
          <a:blip r:embed="rId1"/>
          <a:stretch/>
        </p:blipFill>
        <p:spPr>
          <a:xfrm>
            <a:off x="685440" y="990360"/>
            <a:ext cx="3809880" cy="5105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647960" y="990360"/>
            <a:ext cx="380988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 brother was all wet and soggy.She went to her brother and asked for 8,000,000,000,000 dollars.She found her mom and dad and they set off on the nice beautiful sunset.</a:t>
            </a:r>
            <a:endParaRPr b="0" lang="en-US" sz="2800" spc="-1" strike="noStrike">
              <a:solidFill>
                <a:srgbClr val="000000"/>
              </a:solidFill>
              <a:latin typeface="Arial"/>
            </a:endParaRPr>
          </a:p>
        </p:txBody>
      </p:sp>
      <p:pic>
        <p:nvPicPr>
          <p:cNvPr id="50" name="" descr=""/>
          <p:cNvPicPr/>
          <p:nvPr/>
        </p:nvPicPr>
        <p:blipFill>
          <a:blip r:embed="rId1"/>
          <a:stretch/>
        </p:blipFill>
        <p:spPr>
          <a:xfrm>
            <a:off x="685440" y="990360"/>
            <a:ext cx="3809880" cy="510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647960" y="990360"/>
            <a:ext cx="380988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the sunset finally reached its place.All you could hear was people snoring and baby’s crying.Selena had to go to the hospital since her leg was cut off.The doctors said she needed an operation on her leg. </a:t>
            </a:r>
            <a:endParaRPr b="0" lang="en-US" sz="2800" spc="-1" strike="noStrike">
              <a:solidFill>
                <a:srgbClr val="000000"/>
              </a:solidFill>
              <a:latin typeface="Arial"/>
            </a:endParaRPr>
          </a:p>
        </p:txBody>
      </p:sp>
      <p:pic>
        <p:nvPicPr>
          <p:cNvPr id="52" name="" descr=""/>
          <p:cNvPicPr/>
          <p:nvPr/>
        </p:nvPicPr>
        <p:blipFill>
          <a:blip r:embed="rId1"/>
          <a:stretch/>
        </p:blipFill>
        <p:spPr>
          <a:xfrm>
            <a:off x="685440" y="990360"/>
            <a:ext cx="3809880" cy="5105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647960" y="990360"/>
            <a:ext cx="38098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4" name="" descr=""/>
          <p:cNvPicPr/>
          <p:nvPr/>
        </p:nvPicPr>
        <p:blipFill>
          <a:blip r:embed="rId1"/>
          <a:stretch/>
        </p:blipFill>
        <p:spPr>
          <a:xfrm>
            <a:off x="685440" y="990360"/>
            <a:ext cx="3809880" cy="5105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647960" y="990360"/>
            <a:ext cx="38098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 name="" descr=""/>
          <p:cNvPicPr/>
          <p:nvPr/>
        </p:nvPicPr>
        <p:blipFill>
          <a:blip r:embed="rId1"/>
          <a:stretch/>
        </p:blipFill>
        <p:spPr>
          <a:xfrm>
            <a:off x="685440" y="990360"/>
            <a:ext cx="3809880" cy="5105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3T12:55:40Z</dcterms:created>
  <dc:creator>NYCDOE</dc:creator>
  <dc:description/>
  <dc:language>en-US</dc:language>
  <cp:lastModifiedBy>NYCDOE</cp:lastModifiedBy>
  <dcterms:modified xsi:type="dcterms:W3CDTF">2010-04-23T15:09:24Z</dcterms:modified>
  <cp:revision>4</cp:revision>
  <dc:subject/>
  <dc:title>PowerPoint Presentation</dc:title>
</cp:coreProperties>
</file>